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3D34-4885-480A-BFD8-6D1CAF86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8333-0AC2-42DB-822E-129AF4DD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CC50-65C1-4839-B2B3-35382AECE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8D98-D3D1-4D16-BAAE-756223108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BF77-9054-4469-B774-5E57DA55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CCCF-629C-4C97-A328-AD8E6C46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C882-AD13-4E81-8A55-31DA3193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7C84-3C09-4D1B-BD80-6ABC4C42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16FF-C676-4682-B363-3148AF34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ED54-4200-421E-8BD6-C443A06E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65E6-F822-4FF1-9178-ECDC72B8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292F-E539-41DE-8B6D-26494CE2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7D94-BFAB-4648-BC8D-93CAAB93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033E-BA68-4533-A3AA-976647D0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B546-E2C2-4B84-B0BC-1F2A4EA5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11C4-80F1-4192-BF41-D9193746C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A457-5BBC-41AE-A56E-0BB9B901C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8286-2FEE-4003-AB5E-3AE77FEB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0BA1-B44B-429B-A57A-58CE3008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E98F-CF6F-4324-9C8E-24491328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7973-C974-4384-A83C-D0FFB917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9D5F-775A-41DA-A105-19E744D9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2A66-6340-43A3-BD06-DD4CCAE3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A2C5-FC98-440B-9F42-882F3B47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57A6-8950-409F-AF0D-DDC903BD8FF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E724-F479-4FFA-BF4F-4D5FEC456BF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a Casa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or: Lizzy Knyazhitsk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 casa es grande.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s una cocina. Es muy bonito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s un bano. Es limpio y bonito.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s una cuarto. Es 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lujoso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y grande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s un comedor. Es </a:t>
            </a: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lujoso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y </a:t>
            </a: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cómodo.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7:44:38Z</dcterms:created>
  <dc:creator>knyazhitskyeli</dc:creator>
  <dc:description/>
  <dc:language>en-US</dc:language>
  <cp:lastModifiedBy>knyazhitskyeli</cp:lastModifiedBy>
  <dcterms:modified xsi:type="dcterms:W3CDTF">2011-10-21T18:08:08Z</dcterms:modified>
  <cp:revision>3</cp:revision>
  <dc:subject/>
  <dc:title>La Casa</dc:title>
</cp:coreProperties>
</file>